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CEBE-F15B-4A66-8325-CBE0EB582DA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6CD3-4ABE-4E0E-BED3-70761DA62A22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6010-CBCC-4009-B210-957A189E87D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3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B68B-0333-4D91-882F-5EA5D388378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83304-56FC-4587-99F3-8C2D2383D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B1E1F-8E4F-4ED8-AC00-997428E5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53255-4CB4-4DF3-9A55-63A50078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92756-F3FC-42BA-B3E2-B307724C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55915-0DC6-4022-A60C-A1E0F5CE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9865BA-AC1D-4014-8847-80C89754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27A1F-C6D4-45D5-BAF1-623D950A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A829B-3454-4090-A499-B698DE1F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10970-7134-47E6-B0E4-7276F4CD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22FED-54D4-4ABD-8CA9-BE3F4347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87B9B-9350-4919-AB8B-CF795EBB7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DA1C2-D7E2-4880-ABF5-CCB2C063A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D3904C-A2B3-4272-A6E3-70AAC6F71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FC9E3F-5E30-4E2F-B103-B0A8BDAA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A6ECEA-1964-4322-95BA-BA6DBC80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5D3F3F-D2FC-465F-8D6F-FE446581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9EA840-497B-4F71-9022-65CAE7E1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0285F4-827C-4090-BBC9-736C394D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CB4D46-70FC-4D15-92D0-F8B5BBBF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C5BA01-8EAE-4CAA-B767-9FEBA9D8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488680-2038-45A2-81C4-BE937DA3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9E56B2-2292-44A6-9159-24CB6C1F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28D227-2426-4D3F-AF2F-8867981A0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E7F286-1430-4EF4-968D-C73316E25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FE1B-7640-4789-B3D3-75760FC57B4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64E5-C75D-4C6C-BFB0-5E26407F679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3FE2-448B-4088-9C6A-6FA025E2F8A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69D7-EAE8-40D5-A544-E071D7ED5E0E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7BF5-059F-4328-9534-07622CA72B9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1323-E4AC-48BF-9249-E223E229A9F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4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21E7-4129-4E11-A099-C7B9A82287F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57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61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67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7995-9705-4C39-B651-1FBFA3465011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1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2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2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2E65-CC49-4D76-9EC1-E890A01BD5E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7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8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8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032A-3124-45EE-8B01-36E97734F81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8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4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571680" y="20001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c06cd"/>
                </a:solidFill>
                <a:latin typeface="HY강B"/>
                <a:ea typeface="HY강B"/>
              </a:rPr>
              <a:t>7</a:t>
            </a:r>
            <a:r>
              <a:rPr b="1" lang="ko-KR" sz="3600" spc="-1" strike="noStrike">
                <a:solidFill>
                  <a:srgbClr val="dc06cd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6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그룹 10"/>
          <p:cNvGrpSpPr/>
          <p:nvPr/>
        </p:nvGrpSpPr>
        <p:grpSpPr>
          <a:xfrm>
            <a:off x="214200" y="71280"/>
            <a:ext cx="8929800" cy="6000840"/>
            <a:chOff x="214200" y="71280"/>
            <a:chExt cx="8929800" cy="6000840"/>
          </a:xfrm>
        </p:grpSpPr>
        <p:sp>
          <p:nvSpPr>
            <p:cNvPr id="651" name="AutoShape 2"/>
            <p:cNvSpPr/>
            <p:nvPr/>
          </p:nvSpPr>
          <p:spPr>
            <a:xfrm>
              <a:off x="499680" y="4857840"/>
              <a:ext cx="8280720" cy="1214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2" name="AutoShape 4"/>
            <p:cNvSpPr/>
            <p:nvPr/>
          </p:nvSpPr>
          <p:spPr>
            <a:xfrm>
              <a:off x="356760" y="71280"/>
              <a:ext cx="43578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복지시설의 설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3" name="AutoShape 2"/>
            <p:cNvSpPr/>
            <p:nvPr/>
          </p:nvSpPr>
          <p:spPr>
            <a:xfrm>
              <a:off x="499680" y="1285560"/>
              <a:ext cx="828072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54" name="그룹 10"/>
            <p:cNvGrpSpPr/>
            <p:nvPr/>
          </p:nvGrpSpPr>
          <p:grpSpPr>
            <a:xfrm>
              <a:off x="214200" y="785520"/>
              <a:ext cx="8929800" cy="3186360"/>
              <a:chOff x="214200" y="785520"/>
              <a:chExt cx="8929800" cy="3186360"/>
            </a:xfrm>
          </p:grpSpPr>
          <p:sp>
            <p:nvSpPr>
              <p:cNvPr id="655" name="AutoShape 29"/>
              <p:cNvSpPr/>
              <p:nvPr/>
            </p:nvSpPr>
            <p:spPr>
              <a:xfrm>
                <a:off x="214200" y="7855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복지시설 설계의 기본지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6" name="Text Box 25"/>
              <p:cNvSpPr/>
              <p:nvPr/>
            </p:nvSpPr>
            <p:spPr>
              <a:xfrm>
                <a:off x="571320" y="1285560"/>
                <a:ext cx="8572680" cy="268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립생활 지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barrier-free facility. universal design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생활 보장과 사회적 교류 촉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공간의 합리적 배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zoning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전사고의 예방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non-slip system, nurse call system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사회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환경적 개방공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설종사자의 편의 증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충분한 문화 및 여가공간의 확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57" name="그룹 10"/>
            <p:cNvGrpSpPr/>
            <p:nvPr/>
          </p:nvGrpSpPr>
          <p:grpSpPr>
            <a:xfrm>
              <a:off x="214200" y="4332240"/>
              <a:ext cx="8929800" cy="1681560"/>
              <a:chOff x="214200" y="4332240"/>
              <a:chExt cx="8929800" cy="1681560"/>
            </a:xfrm>
          </p:grpSpPr>
          <p:sp>
            <p:nvSpPr>
              <p:cNvPr id="658" name="AutoShape 29"/>
              <p:cNvSpPr/>
              <p:nvPr/>
            </p:nvSpPr>
            <p:spPr>
              <a:xfrm>
                <a:off x="214200" y="433224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복지시설 공간별 설계지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9" name="Text Box 25"/>
              <p:cNvSpPr/>
              <p:nvPr/>
            </p:nvSpPr>
            <p:spPr>
              <a:xfrm>
                <a:off x="571320" y="4903560"/>
                <a:ext cx="8572680" cy="11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출입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벽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바닥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승강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화장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담화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목욕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오물처리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복지사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식당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탁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냉난방설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명설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관과 정원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의 설계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5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그룹 12"/>
          <p:cNvGrpSpPr/>
          <p:nvPr/>
        </p:nvGrpSpPr>
        <p:grpSpPr>
          <a:xfrm>
            <a:off x="142920" y="71280"/>
            <a:ext cx="9001080" cy="6262920"/>
            <a:chOff x="142920" y="71280"/>
            <a:chExt cx="9001080" cy="6262920"/>
          </a:xfrm>
        </p:grpSpPr>
        <p:sp>
          <p:nvSpPr>
            <p:cNvPr id="661" name="AutoShape 2"/>
            <p:cNvSpPr/>
            <p:nvPr/>
          </p:nvSpPr>
          <p:spPr>
            <a:xfrm>
              <a:off x="180720" y="3214440"/>
              <a:ext cx="8748720" cy="3071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2" name="AutoShape 2"/>
            <p:cNvSpPr/>
            <p:nvPr/>
          </p:nvSpPr>
          <p:spPr>
            <a:xfrm>
              <a:off x="142920" y="1928520"/>
              <a:ext cx="8748720" cy="785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3" name="Text Box 25"/>
            <p:cNvSpPr/>
            <p:nvPr/>
          </p:nvSpPr>
          <p:spPr>
            <a:xfrm>
              <a:off x="214200" y="1935000"/>
              <a:ext cx="8715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원칙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권보호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기결정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립생활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가요양 우선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례관리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비밀보장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록 및 공개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통합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서비스와 효율성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당청구 금지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알선행위 금지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6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64" name="그룹 30"/>
            <p:cNvGrpSpPr/>
            <p:nvPr/>
          </p:nvGrpSpPr>
          <p:grpSpPr>
            <a:xfrm>
              <a:off x="142920" y="71280"/>
              <a:ext cx="9001080" cy="1395000"/>
              <a:chOff x="142920" y="71280"/>
              <a:chExt cx="9001080" cy="1395000"/>
            </a:xfrm>
          </p:grpSpPr>
          <p:sp>
            <p:nvSpPr>
              <p:cNvPr id="665" name="AutoShape 2"/>
              <p:cNvSpPr/>
              <p:nvPr/>
            </p:nvSpPr>
            <p:spPr>
              <a:xfrm>
                <a:off x="181080" y="621720"/>
                <a:ext cx="8748720" cy="806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6" name="AutoShape 7"/>
              <p:cNvSpPr/>
              <p:nvPr/>
            </p:nvSpPr>
            <p:spPr>
              <a:xfrm>
                <a:off x="142920" y="71280"/>
                <a:ext cx="53578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 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시설의 운영과 관리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7" name="Text Box 25"/>
              <p:cNvSpPr/>
              <p:nvPr/>
            </p:nvSpPr>
            <p:spPr>
              <a:xfrm>
                <a:off x="214200" y="777600"/>
                <a:ext cx="8929800" cy="6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설운영 방식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주거복지시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&gt;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고지원방식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료복지시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&gt;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보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방식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음에서는 노인의료복지시설 운영과 관리를 중심으로 논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68" name="AutoShape 29"/>
            <p:cNvSpPr/>
            <p:nvPr/>
          </p:nvSpPr>
          <p:spPr>
            <a:xfrm>
              <a:off x="142920" y="1571400"/>
              <a:ext cx="8572680" cy="3571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시설 서비스 제공의 기본원칙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9" name="AutoShape 29"/>
            <p:cNvSpPr/>
            <p:nvPr/>
          </p:nvSpPr>
          <p:spPr>
            <a:xfrm>
              <a:off x="142920" y="27144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인력관리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Text Box 25"/>
            <p:cNvSpPr/>
            <p:nvPr/>
          </p:nvSpPr>
          <p:spPr>
            <a:xfrm>
              <a:off x="214200" y="3316320"/>
              <a:ext cx="8643960" cy="30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인력의 적정수준 확보는 시설운영의 핵심 요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설종류별 인력배치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7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설규모에 따라 일부 종사자 추가배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요양보호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성 질환으로 독립적인 일상생활을 수행하기 어려운 노인들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해 노인요양 및 재가시설에서 신체 및 가사 지원 서비스를 제공하는 인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요양보호사 양성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: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연령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교육수준에 관계없이 소정 교육 이수 후 시도지사 주관 자격시험 통과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양성교육시간</a:t>
              </a:r>
              <a:r>
                <a:rPr b="0" lang="en-US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7-8 </a:t>
              </a:r>
              <a:r>
                <a:rPr b="0" lang="ko-KR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.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단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경력자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간호사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사회복지사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물리치료사 자격소지자는 교육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 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시간 감면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 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교육수준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연령에 관계없이 단기교육으로 양성된 요양보호사의 질적 문제로 요양서비스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 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의 질적 문제 야기 가능성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그룹 8"/>
          <p:cNvGrpSpPr/>
          <p:nvPr/>
        </p:nvGrpSpPr>
        <p:grpSpPr>
          <a:xfrm>
            <a:off x="0" y="214200"/>
            <a:ext cx="8929800" cy="6500880"/>
            <a:chOff x="0" y="214200"/>
            <a:chExt cx="8929800" cy="6500880"/>
          </a:xfrm>
        </p:grpSpPr>
        <p:pic>
          <p:nvPicPr>
            <p:cNvPr id="672" name="Picture 2" descr="C:\DOCUME~1\USER\LOCALS~1\Temp\UNI000009b01cd2.gif"/>
            <p:cNvPicPr/>
            <p:nvPr/>
          </p:nvPicPr>
          <p:blipFill>
            <a:blip r:embed="rId1"/>
            <a:stretch/>
          </p:blipFill>
          <p:spPr>
            <a:xfrm>
              <a:off x="0" y="5035680"/>
              <a:ext cx="3929040" cy="16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AutoShape 2"/>
            <p:cNvSpPr/>
            <p:nvPr/>
          </p:nvSpPr>
          <p:spPr>
            <a:xfrm>
              <a:off x="180720" y="785520"/>
              <a:ext cx="874908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AutoShape 29"/>
            <p:cNvSpPr/>
            <p:nvPr/>
          </p:nvSpPr>
          <p:spPr>
            <a:xfrm>
              <a:off x="142560" y="2142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인력관리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Text Box 25"/>
            <p:cNvSpPr/>
            <p:nvPr/>
          </p:nvSpPr>
          <p:spPr>
            <a:xfrm>
              <a:off x="214200" y="857160"/>
              <a:ext cx="8715600" cy="164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건비 지급기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복지시설은 사회복지시설 관리안내의 인건비 지침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적용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료복지시설은 시설 경영자가 근로기준법내에서 자율 결정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요양보호사 등은 대부분 계약직 채용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종사자의 급여수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무환경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직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안정성은 장기요양보험제도 시행 후 오히려 악화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AutoShape 2"/>
            <p:cNvSpPr/>
            <p:nvPr/>
          </p:nvSpPr>
          <p:spPr>
            <a:xfrm>
              <a:off x="180720" y="3357360"/>
              <a:ext cx="8749080" cy="1643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AutoShape 29"/>
            <p:cNvSpPr/>
            <p:nvPr/>
          </p:nvSpPr>
          <p:spPr>
            <a:xfrm>
              <a:off x="142560" y="278604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재정관리</a:t>
              </a: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Text Box 25"/>
            <p:cNvSpPr/>
            <p:nvPr/>
          </p:nvSpPr>
          <p:spPr>
            <a:xfrm>
              <a:off x="214200" y="3463920"/>
              <a:ext cx="8644320" cy="15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복지시설의 재정관리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고와 지방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실비입소자의 입소비용으로 조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계비는 국민기초생활보장법 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리운영비는 시설경영자가 자체 운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획에 의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행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그룹 9"/>
          <p:cNvGrpSpPr/>
          <p:nvPr/>
        </p:nvGrpSpPr>
        <p:grpSpPr>
          <a:xfrm>
            <a:off x="142920" y="71280"/>
            <a:ext cx="8786880" cy="6199920"/>
            <a:chOff x="142920" y="71280"/>
            <a:chExt cx="8786880" cy="6199920"/>
          </a:xfrm>
        </p:grpSpPr>
        <p:sp>
          <p:nvSpPr>
            <p:cNvPr id="680" name="AutoShape 2"/>
            <p:cNvSpPr/>
            <p:nvPr/>
          </p:nvSpPr>
          <p:spPr>
            <a:xfrm>
              <a:off x="180720" y="499680"/>
              <a:ext cx="8749080" cy="32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AutoShape 29"/>
            <p:cNvSpPr/>
            <p:nvPr/>
          </p:nvSpPr>
          <p:spPr>
            <a:xfrm>
              <a:off x="142920" y="7128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재정관리</a:t>
              </a: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2" name="Text Box 25"/>
            <p:cNvSpPr/>
            <p:nvPr/>
          </p:nvSpPr>
          <p:spPr>
            <a:xfrm>
              <a:off x="285480" y="499680"/>
              <a:ext cx="8644320" cy="32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료복지시설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장기요양기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재정관리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급여방식과 수가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두제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人頭制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방식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시설종류와 등급에 따른 차등수가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9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급여비용 구성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장기요양보험급여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80%)+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입소노인의 본인부담금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20%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단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소득따라 경감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비급여항목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식사재료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급 침실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1-2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실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용 추가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미용비는 전액 본인부담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원거리 택시 등의 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별 물품 구입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인 희망 서비스 이용비용은 실비 부담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경영자는 운영수입 범위 내에서 생계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건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운영비 등을 자율 집행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시설환경개선 비용 적립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난방비와 공공요금 부담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해 및 영업배상보험 가입 등으로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재정압박시 서비스 운영경비 축소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력구조조정 등의 비용절감 시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런 재정운용방식 선택시 서비스 질 저하로 이어지고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결국 소비자의 선택을 받지 못하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는 상황에 직면할 수 있으므로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외부 자원개발을 위한 노력 필요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83" name="그룹 8"/>
            <p:cNvGrpSpPr/>
            <p:nvPr/>
          </p:nvGrpSpPr>
          <p:grpSpPr>
            <a:xfrm>
              <a:off x="180720" y="3857760"/>
              <a:ext cx="8749080" cy="2413440"/>
              <a:chOff x="180720" y="3857760"/>
              <a:chExt cx="8749080" cy="2413440"/>
            </a:xfrm>
          </p:grpSpPr>
          <p:sp>
            <p:nvSpPr>
              <p:cNvPr id="684" name="AutoShape 2"/>
              <p:cNvSpPr/>
              <p:nvPr/>
            </p:nvSpPr>
            <p:spPr>
              <a:xfrm>
                <a:off x="180720" y="4263120"/>
                <a:ext cx="8749080" cy="1952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5" name="Text Box 6"/>
              <p:cNvSpPr/>
              <p:nvPr/>
            </p:nvSpPr>
            <p:spPr>
              <a:xfrm>
                <a:off x="285480" y="4264200"/>
                <a:ext cx="8644320" cy="200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당 면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양로시설과 노인공동생활가정은 노인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당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5.9m2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요양시설은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23.6m2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요양공동생활시설은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20.5m2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시설의 시설 기준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10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기준 시설의 확보 이외에 공간별 계획 설계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5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 필요하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냉난방관리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습기와 냄새관리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청소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전기 등의 안전점검을 철저히 해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시설설비 개조필요 비용 마련을 위해 감가상각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지속 적립 필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6" name="직사각형 8"/>
              <p:cNvSpPr/>
              <p:nvPr/>
            </p:nvSpPr>
            <p:spPr>
              <a:xfrm>
                <a:off x="213840" y="3857760"/>
                <a:ext cx="50724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시설관리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그룹 11"/>
          <p:cNvGrpSpPr/>
          <p:nvPr/>
        </p:nvGrpSpPr>
        <p:grpSpPr>
          <a:xfrm>
            <a:off x="0" y="142920"/>
            <a:ext cx="9001080" cy="6487920"/>
            <a:chOff x="0" y="142920"/>
            <a:chExt cx="9001080" cy="6487920"/>
          </a:xfrm>
        </p:grpSpPr>
        <p:pic>
          <p:nvPicPr>
            <p:cNvPr id="688" name="Picture 4" descr="C:\DOCUME~1\USER\LOCALS~1\Temp\UNI000006ac76dc.gif"/>
            <p:cNvPicPr/>
            <p:nvPr/>
          </p:nvPicPr>
          <p:blipFill>
            <a:blip r:embed="rId1"/>
            <a:stretch/>
          </p:blipFill>
          <p:spPr>
            <a:xfrm>
              <a:off x="0" y="5929200"/>
              <a:ext cx="1857240" cy="70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9" name="그룹 2"/>
            <p:cNvGrpSpPr/>
            <p:nvPr/>
          </p:nvGrpSpPr>
          <p:grpSpPr>
            <a:xfrm>
              <a:off x="180720" y="142920"/>
              <a:ext cx="8820360" cy="1857240"/>
              <a:chOff x="180720" y="142920"/>
              <a:chExt cx="8820360" cy="1857240"/>
            </a:xfrm>
          </p:grpSpPr>
          <p:sp>
            <p:nvSpPr>
              <p:cNvPr id="690" name="AutoShape 2"/>
              <p:cNvSpPr/>
              <p:nvPr/>
            </p:nvSpPr>
            <p:spPr>
              <a:xfrm>
                <a:off x="180720" y="646200"/>
                <a:ext cx="8820360" cy="1353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1" name="Text Box 6"/>
              <p:cNvSpPr/>
              <p:nvPr/>
            </p:nvSpPr>
            <p:spPr>
              <a:xfrm>
                <a:off x="285480" y="733320"/>
                <a:ext cx="8715600" cy="121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통의 요양서비스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와 함께 개별화된 사례관리서비스를 제공해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소노인 개인의 장기요양등급과 욕구에 대한 종합사정을 바탕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생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are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및 사회교류 촉진서비스 등이 이루어져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2" name="직사각형 4"/>
              <p:cNvSpPr/>
              <p:nvPr/>
            </p:nvSpPr>
            <p:spPr>
              <a:xfrm>
                <a:off x="213840" y="142920"/>
                <a:ext cx="59295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프로그램관리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93" name="AutoShape 2"/>
            <p:cNvSpPr/>
            <p:nvPr/>
          </p:nvSpPr>
          <p:spPr>
            <a:xfrm>
              <a:off x="142560" y="3000240"/>
              <a:ext cx="8858520" cy="3071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94" name="그룹 10"/>
            <p:cNvGrpSpPr/>
            <p:nvPr/>
          </p:nvGrpSpPr>
          <p:grpSpPr>
            <a:xfrm>
              <a:off x="285480" y="2357280"/>
              <a:ext cx="8643960" cy="3299400"/>
              <a:chOff x="285480" y="2357280"/>
              <a:chExt cx="8643960" cy="3299400"/>
            </a:xfrm>
          </p:grpSpPr>
          <p:sp>
            <p:nvSpPr>
              <p:cNvPr id="695" name="AutoShape 4"/>
              <p:cNvSpPr/>
              <p:nvPr/>
            </p:nvSpPr>
            <p:spPr>
              <a:xfrm>
                <a:off x="285480" y="2357280"/>
                <a:ext cx="414324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노인복지시설 평가</a:t>
                </a: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6" name="Text Box 6"/>
              <p:cNvSpPr/>
              <p:nvPr/>
            </p:nvSpPr>
            <p:spPr>
              <a:xfrm>
                <a:off x="285480" y="3109680"/>
                <a:ext cx="8643960" cy="254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업법에 근거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주기로 모든 사회복지시설 평가 의무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복지시설은 사회복지사업법에 의거 기존의 노인복지시설 평가방법과 절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용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복지시설은 노인장기요양보험법 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에 의거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관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경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권리 및 책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제공과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제공결과 등을 평가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복지시설 평가주체 및 결과공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민건강보험공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홈페이지 공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그룹 5"/>
          <p:cNvGrpSpPr/>
          <p:nvPr/>
        </p:nvGrpSpPr>
        <p:grpSpPr>
          <a:xfrm>
            <a:off x="142920" y="214200"/>
            <a:ext cx="8929800" cy="6000840"/>
            <a:chOff x="142920" y="214200"/>
            <a:chExt cx="8929800" cy="6000840"/>
          </a:xfrm>
        </p:grpSpPr>
        <p:sp>
          <p:nvSpPr>
            <p:cNvPr id="698" name="AutoShape 2"/>
            <p:cNvSpPr/>
            <p:nvPr/>
          </p:nvSpPr>
          <p:spPr>
            <a:xfrm>
              <a:off x="142920" y="857160"/>
              <a:ext cx="8858520" cy="5357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99" name="그룹 10"/>
            <p:cNvGrpSpPr/>
            <p:nvPr/>
          </p:nvGrpSpPr>
          <p:grpSpPr>
            <a:xfrm>
              <a:off x="285480" y="214200"/>
              <a:ext cx="8787240" cy="5913720"/>
              <a:chOff x="285480" y="214200"/>
              <a:chExt cx="8787240" cy="5913720"/>
            </a:xfrm>
          </p:grpSpPr>
          <p:sp>
            <p:nvSpPr>
              <p:cNvPr id="700" name="AutoShape 4"/>
              <p:cNvSpPr/>
              <p:nvPr/>
            </p:nvSpPr>
            <p:spPr>
              <a:xfrm>
                <a:off x="285480" y="214200"/>
                <a:ext cx="55011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노인복지시설의 문제와 과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1" name="Text Box 6"/>
              <p:cNvSpPr/>
              <p:nvPr/>
            </p:nvSpPr>
            <p:spPr>
              <a:xfrm>
                <a:off x="285480" y="1095120"/>
                <a:ext cx="8787240" cy="50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시설의 수와 편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수 부족 예측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시지역 편중되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자립도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낮은 지자체와 농촌지역의 부족 심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재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 및 시설간 빈익빈 부익부 현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시장의 경쟁력 상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폐쇄되는 시설 존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자립도 낮은 지자체의 지방비 지원 부족으로 시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의 질적 저하 초래 가능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인력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기교육에 의한 요양보호사 양성으로 인력의 질 확보 어려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보호사의 비정규직화 및 구조조정 등으로 직업안정성 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및 복리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위한 국가의 적극적 개입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서비스와 프로그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례관리와 개별화된 서비스의 강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운영자 인식개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운영경비 상향조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다양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력 및 시설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환경과 설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설비의 노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 자체의 감가상각비 적립을 통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기적 리모델링이 요구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그룹 11"/>
          <p:cNvGrpSpPr/>
          <p:nvPr/>
        </p:nvGrpSpPr>
        <p:grpSpPr>
          <a:xfrm>
            <a:off x="0" y="0"/>
            <a:ext cx="9501120" cy="6410880"/>
            <a:chOff x="0" y="0"/>
            <a:chExt cx="9501120" cy="6410880"/>
          </a:xfrm>
        </p:grpSpPr>
        <p:pic>
          <p:nvPicPr>
            <p:cNvPr id="7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Rectangle 2"/>
            <p:cNvSpPr/>
            <p:nvPr/>
          </p:nvSpPr>
          <p:spPr>
            <a:xfrm>
              <a:off x="171432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고령친화산업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05" name="그룹 34"/>
            <p:cNvGrpSpPr/>
            <p:nvPr/>
          </p:nvGrpSpPr>
          <p:grpSpPr>
            <a:xfrm>
              <a:off x="285480" y="714240"/>
              <a:ext cx="8643960" cy="2866320"/>
              <a:chOff x="285480" y="714240"/>
              <a:chExt cx="8643960" cy="2866320"/>
            </a:xfrm>
          </p:grpSpPr>
          <p:sp>
            <p:nvSpPr>
              <p:cNvPr id="706" name="AutoShape 2"/>
              <p:cNvSpPr/>
              <p:nvPr/>
            </p:nvSpPr>
            <p:spPr>
              <a:xfrm>
                <a:off x="285480" y="1067040"/>
                <a:ext cx="8643960" cy="2471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7" name="AutoShape 4"/>
              <p:cNvSpPr/>
              <p:nvPr/>
            </p:nvSpPr>
            <p:spPr>
              <a:xfrm>
                <a:off x="356760" y="714240"/>
                <a:ext cx="4857840" cy="423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8" name="Text Box 6"/>
              <p:cNvSpPr/>
              <p:nvPr/>
            </p:nvSpPr>
            <p:spPr>
              <a:xfrm>
                <a:off x="499680" y="1188720"/>
                <a:ext cx="8358480" cy="239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용어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silver industry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아닌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elderly market, mature market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 적절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요양서비스 등과 같은 고령친화제품 등을 연구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발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제조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제공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유통 또는 판매하는 산업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진흥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특성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대상→ 노인과 고령자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주체→ 민간기업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서비스 원칙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시장경제원리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분야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욕구와 문제해결에 필요한 상품과 서비스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은 이윤을 중시하는 민간재와 공익을 중시하는 공공재의 특성을 공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 혼합재의 속성을 지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09" name="그룹 34"/>
            <p:cNvGrpSpPr/>
            <p:nvPr/>
          </p:nvGrpSpPr>
          <p:grpSpPr>
            <a:xfrm>
              <a:off x="285480" y="3572280"/>
              <a:ext cx="8643960" cy="2838600"/>
              <a:chOff x="285480" y="3572280"/>
              <a:chExt cx="8643960" cy="2838600"/>
            </a:xfrm>
          </p:grpSpPr>
          <p:sp>
            <p:nvSpPr>
              <p:cNvPr id="710" name="AutoShape 2"/>
              <p:cNvSpPr/>
              <p:nvPr/>
            </p:nvSpPr>
            <p:spPr>
              <a:xfrm>
                <a:off x="285480" y="3982320"/>
                <a:ext cx="8643960" cy="2428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1" name="AutoShape 4"/>
              <p:cNvSpPr/>
              <p:nvPr/>
            </p:nvSpPr>
            <p:spPr>
              <a:xfrm>
                <a:off x="356760" y="3572280"/>
                <a:ext cx="5214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등장과 발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2" name="Text Box 6"/>
              <p:cNvSpPr/>
              <p:nvPr/>
            </p:nvSpPr>
            <p:spPr>
              <a:xfrm>
                <a:off x="499680" y="4088160"/>
                <a:ext cx="8358480" cy="23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등장배경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인구 증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경제력 향상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지서비스에 대한 인식변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구조 및 부양기능 약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가의 복지책임 이행의 한계와 민영화 추진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 학술적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미국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70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대 활성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일본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70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대 시작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국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1993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유료시설 에 민간참여 허용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06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고령친화산업진흥법 제정으로 기반구축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앞으로 경제력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유시간이 많은 노인의 증가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료수요 및 욕구 다양화로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 확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베이비붐 세대의 은퇴와 노년기 진입으로 시장규모 더욱 확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그룹 9"/>
          <p:cNvGrpSpPr/>
          <p:nvPr/>
        </p:nvGrpSpPr>
        <p:grpSpPr>
          <a:xfrm>
            <a:off x="357120" y="71280"/>
            <a:ext cx="8786880" cy="6393600"/>
            <a:chOff x="357120" y="71280"/>
            <a:chExt cx="8786880" cy="6393600"/>
          </a:xfrm>
        </p:grpSpPr>
        <p:grpSp>
          <p:nvGrpSpPr>
            <p:cNvPr id="714" name="그룹 34"/>
            <p:cNvGrpSpPr/>
            <p:nvPr/>
          </p:nvGrpSpPr>
          <p:grpSpPr>
            <a:xfrm>
              <a:off x="357120" y="71280"/>
              <a:ext cx="8786880" cy="1717560"/>
              <a:chOff x="357120" y="71280"/>
              <a:chExt cx="8786880" cy="1717560"/>
            </a:xfrm>
          </p:grpSpPr>
          <p:sp>
            <p:nvSpPr>
              <p:cNvPr id="715" name="AutoShape 2"/>
              <p:cNvSpPr/>
              <p:nvPr/>
            </p:nvSpPr>
            <p:spPr>
              <a:xfrm>
                <a:off x="357120" y="428400"/>
                <a:ext cx="8644320" cy="1357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6" name="AutoShape 4"/>
              <p:cNvSpPr/>
              <p:nvPr/>
            </p:nvSpPr>
            <p:spPr>
              <a:xfrm>
                <a:off x="357120" y="71280"/>
                <a:ext cx="43578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분야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7" name="Text Box 6"/>
              <p:cNvSpPr/>
              <p:nvPr/>
            </p:nvSpPr>
            <p:spPr>
              <a:xfrm>
                <a:off x="499680" y="551160"/>
                <a:ext cx="8644320" cy="12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주체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소비자 특성과 욕구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방식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업내용에 따라 구분 가능하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만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업내용에 따라 요양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약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식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화장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료기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금융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 등으로 구분되며 다양한 사업 포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18" name="그룹 34"/>
            <p:cNvGrpSpPr/>
            <p:nvPr/>
          </p:nvGrpSpPr>
          <p:grpSpPr>
            <a:xfrm>
              <a:off x="357120" y="1928520"/>
              <a:ext cx="8644320" cy="4536360"/>
              <a:chOff x="357120" y="1928520"/>
              <a:chExt cx="8644320" cy="4536360"/>
            </a:xfrm>
          </p:grpSpPr>
          <p:sp>
            <p:nvSpPr>
              <p:cNvPr id="719" name="AutoShape 2"/>
              <p:cNvSpPr/>
              <p:nvPr/>
            </p:nvSpPr>
            <p:spPr>
              <a:xfrm>
                <a:off x="357120" y="2338560"/>
                <a:ext cx="8644320" cy="4090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0" name="AutoShape 4"/>
              <p:cNvSpPr/>
              <p:nvPr/>
            </p:nvSpPr>
            <p:spPr>
              <a:xfrm>
                <a:off x="357120" y="1928520"/>
                <a:ext cx="43578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현황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1" name="Text Box 6"/>
              <p:cNvSpPr/>
              <p:nvPr/>
            </p:nvSpPr>
            <p:spPr>
              <a:xfrm>
                <a:off x="499680" y="2444400"/>
                <a:ext cx="8501760" cy="402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은 주거관련 분야를 중심으로 발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유료시설 입소 및 생활비는 편차가 크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수도권 지역에 집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되어 있으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계층간 위화감 조성 및 복지차별 문제 야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료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케어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장기요양보험제도 시행으로 이 분야의 사업이 급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속히 확대될 것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산 복지용구의 개발과 생산 확대가 과제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금융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금신탁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금보험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각종 건강보험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택연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지연금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상품 다양화와 가입자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육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해외 테마여행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레포츠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정보서비스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양화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서전쓰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취미클럽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웹사이트 운영 등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생활편의서비스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보조식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특별식 배달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전용의류디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과 판매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존성 노인에 대한 배달서비스 확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그룹 11"/>
          <p:cNvGrpSpPr/>
          <p:nvPr/>
        </p:nvGrpSpPr>
        <p:grpSpPr>
          <a:xfrm>
            <a:off x="0" y="142920"/>
            <a:ext cx="8997840" cy="6572160"/>
            <a:chOff x="0" y="142920"/>
            <a:chExt cx="8997840" cy="6572160"/>
          </a:xfrm>
        </p:grpSpPr>
        <p:sp>
          <p:nvSpPr>
            <p:cNvPr id="723" name="AutoShape 2"/>
            <p:cNvSpPr/>
            <p:nvPr/>
          </p:nvSpPr>
          <p:spPr>
            <a:xfrm>
              <a:off x="285480" y="500040"/>
              <a:ext cx="8640720" cy="1071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4" name="AutoShape 4"/>
            <p:cNvSpPr/>
            <p:nvPr/>
          </p:nvSpPr>
          <p:spPr>
            <a:xfrm>
              <a:off x="357120" y="142920"/>
              <a:ext cx="43578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고령친화산업의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5" name="Text Box 25"/>
            <p:cNvSpPr/>
            <p:nvPr/>
          </p:nvSpPr>
          <p:spPr>
            <a:xfrm>
              <a:off x="357120" y="780840"/>
              <a:ext cx="8143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 수요 및 민간기업의 참여 증가 등으로 실버마케팅 관심 증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러나 다양한 장애요인으로 민간부문 참여를 관망하며 준비 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26" name="그룹 12"/>
            <p:cNvGrpSpPr/>
            <p:nvPr/>
          </p:nvGrpSpPr>
          <p:grpSpPr>
            <a:xfrm>
              <a:off x="0" y="5816520"/>
              <a:ext cx="8501040" cy="898560"/>
              <a:chOff x="0" y="5816520"/>
              <a:chExt cx="8501040" cy="898560"/>
            </a:xfrm>
          </p:grpSpPr>
          <p:pic>
            <p:nvPicPr>
              <p:cNvPr id="727" name="Picture 4" descr="C:\DOCUME~1\USER\LOCALS~1\Temp\UNI000006c8818c.gif"/>
              <p:cNvPicPr/>
              <p:nvPr/>
            </p:nvPicPr>
            <p:blipFill>
              <a:blip r:embed="rId3"/>
              <a:stretch/>
            </p:blipFill>
            <p:spPr>
              <a:xfrm>
                <a:off x="0" y="5816520"/>
                <a:ext cx="11224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8" name="Rectangle 4"/>
              <p:cNvSpPr/>
              <p:nvPr/>
            </p:nvSpPr>
            <p:spPr>
              <a:xfrm>
                <a:off x="961920" y="6000480"/>
                <a:ext cx="75391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사회관계망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29" name="그룹 8"/>
            <p:cNvGrpSpPr/>
            <p:nvPr/>
          </p:nvGrpSpPr>
          <p:grpSpPr>
            <a:xfrm>
              <a:off x="285480" y="1674720"/>
              <a:ext cx="8712360" cy="4067640"/>
              <a:chOff x="285480" y="1674720"/>
              <a:chExt cx="8712360" cy="4067640"/>
            </a:xfrm>
          </p:grpSpPr>
          <p:sp>
            <p:nvSpPr>
              <p:cNvPr id="730" name="AutoShape 2"/>
              <p:cNvSpPr/>
              <p:nvPr/>
            </p:nvSpPr>
            <p:spPr>
              <a:xfrm>
                <a:off x="285480" y="2071440"/>
                <a:ext cx="8641080" cy="366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1" name="Text Box 6"/>
              <p:cNvSpPr/>
              <p:nvPr/>
            </p:nvSpPr>
            <p:spPr>
              <a:xfrm>
                <a:off x="356760" y="2168280"/>
                <a:ext cx="8641080" cy="357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재정 확대를 통한 국민의 최저생활 보장과 복지증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에 대한 국가책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 낮은 상태에서 민영화 추진시 노인복지의 양극화로 인한 복지차별의 심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능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의 육성과 국가 지원 강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진흥법 제정으로 기반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축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직 가시적 효과 나타나지 않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에 대한 규제장치 마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나 상품의 질 불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사기사건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악덕상술 피해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실버서비스 윤리강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우수제품 지정 제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입을 통한 지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독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서비스 소비자의 권리의식 증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단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비자단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민단체 등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협력하여 소비자의 권리 향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2" name="직사각형 14"/>
              <p:cNvSpPr/>
              <p:nvPr/>
            </p:nvSpPr>
            <p:spPr>
              <a:xfrm>
                <a:off x="318600" y="167472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고령친화산업 활성화 방안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55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3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7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558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년기 주거환경의 의미와 노인을 위한 주거계획 이해 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9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560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Text Box 18"/>
              <p:cNvSpPr/>
              <p:nvPr/>
            </p:nvSpPr>
            <p:spPr>
              <a:xfrm>
                <a:off x="642960" y="212256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565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Text Box 18"/>
              <p:cNvSpPr/>
              <p:nvPr/>
            </p:nvSpPr>
            <p:spPr>
              <a:xfrm>
                <a:off x="642960" y="305712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570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1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Text Box 18"/>
              <p:cNvSpPr/>
              <p:nvPr/>
            </p:nvSpPr>
            <p:spPr>
              <a:xfrm>
                <a:off x="642960" y="39952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575" name="Oval 15"/>
              <p:cNvSpPr/>
              <p:nvPr/>
            </p:nvSpPr>
            <p:spPr>
              <a:xfrm>
                <a:off x="664200" y="4924800"/>
                <a:ext cx="777600" cy="4485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9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의 주거실태와 문제점 이해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개선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인복지시설 유형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설계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관리운영 및 평가체계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고령친화산업의 특성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분야의 이해와 발전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2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56800" y="274680"/>
            <a:ext cx="8286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7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장 노년기 주거생활과 고령친화산업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그룹 18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sp>
          <p:nvSpPr>
            <p:cNvPr id="585" name="AutoShape 2"/>
            <p:cNvSpPr/>
            <p:nvPr/>
          </p:nvSpPr>
          <p:spPr>
            <a:xfrm>
              <a:off x="180720" y="2714400"/>
              <a:ext cx="8820360" cy="2286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8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주거환경의 중요성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18"/>
            <p:cNvGrpSpPr/>
            <p:nvPr/>
          </p:nvGrpSpPr>
          <p:grpSpPr>
            <a:xfrm>
              <a:off x="180720" y="928440"/>
              <a:ext cx="8963280" cy="1285920"/>
              <a:chOff x="180720" y="928440"/>
              <a:chExt cx="8963280" cy="1285920"/>
            </a:xfrm>
          </p:grpSpPr>
          <p:sp>
            <p:nvSpPr>
              <p:cNvPr id="589" name="AutoShape 2"/>
              <p:cNvSpPr/>
              <p:nvPr/>
            </p:nvSpPr>
            <p:spPr>
              <a:xfrm>
                <a:off x="180720" y="1428480"/>
                <a:ext cx="8820720" cy="785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0" name="그룹 10"/>
              <p:cNvGrpSpPr/>
              <p:nvPr/>
            </p:nvGrpSpPr>
            <p:grpSpPr>
              <a:xfrm>
                <a:off x="213840" y="928440"/>
                <a:ext cx="8930160" cy="1249560"/>
                <a:chOff x="213840" y="928440"/>
                <a:chExt cx="8930160" cy="1249560"/>
              </a:xfrm>
            </p:grpSpPr>
            <p:sp>
              <p:nvSpPr>
                <p:cNvPr id="591" name="AutoShape 29"/>
                <p:cNvSpPr/>
                <p:nvPr/>
              </p:nvSpPr>
              <p:spPr>
                <a:xfrm>
                  <a:off x="213840" y="928440"/>
                  <a:ext cx="8573040" cy="42876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71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300" spc="-1" strike="noStrike">
                      <a:solidFill>
                        <a:srgbClr val="c00000"/>
                      </a:solidFill>
                      <a:latin typeface="HY강B"/>
                    </a:rPr>
                    <a:t>노년기에 주거환경이 중요한 이유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92" name="Text Box 25"/>
                <p:cNvSpPr/>
                <p:nvPr/>
              </p:nvSpPr>
              <p:spPr>
                <a:xfrm>
                  <a:off x="213840" y="1428480"/>
                  <a:ext cx="8930160" cy="74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관계망과 생활영역의 축소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고독과 소외 가능성 증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기능 및  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ADL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 저하로 인한 독립적 생활의 제한과 환경에 대한 적응능력 저하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3" name="그룹 10"/>
            <p:cNvGrpSpPr/>
            <p:nvPr/>
          </p:nvGrpSpPr>
          <p:grpSpPr>
            <a:xfrm>
              <a:off x="214200" y="2225520"/>
              <a:ext cx="8786880" cy="2762640"/>
              <a:chOff x="214200" y="2225520"/>
              <a:chExt cx="8786880" cy="2762640"/>
            </a:xfrm>
          </p:grpSpPr>
          <p:sp>
            <p:nvSpPr>
              <p:cNvPr id="594" name="AutoShape 29"/>
              <p:cNvSpPr/>
              <p:nvPr/>
            </p:nvSpPr>
            <p:spPr>
              <a:xfrm>
                <a:off x="214200" y="22255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71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노년기 주거환경의 중요성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Text Box 25"/>
              <p:cNvSpPr/>
              <p:nvPr/>
            </p:nvSpPr>
            <p:spPr>
              <a:xfrm>
                <a:off x="214200" y="2725560"/>
                <a:ext cx="8786880" cy="226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된 생활영역이 가정환경으로 축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택의 소득보장기능과 주거비용 부담의 감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일 주택 장기 거주시 사회관계망과 사회적 지위 유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생활의 자유를 공간적으로 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생에 걸친 추억과 경험의 연속성 유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계획 주거환경으로 신체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ADL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저하 보완과 안전한 물리환경 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6" name="그룹 18"/>
            <p:cNvGrpSpPr/>
            <p:nvPr/>
          </p:nvGrpSpPr>
          <p:grpSpPr>
            <a:xfrm>
              <a:off x="180720" y="5010120"/>
              <a:ext cx="8963280" cy="1419120"/>
              <a:chOff x="180720" y="5010120"/>
              <a:chExt cx="8963280" cy="1419120"/>
            </a:xfrm>
          </p:grpSpPr>
          <p:sp>
            <p:nvSpPr>
              <p:cNvPr id="597" name="AutoShape 2"/>
              <p:cNvSpPr/>
              <p:nvPr/>
            </p:nvSpPr>
            <p:spPr>
              <a:xfrm>
                <a:off x="180720" y="5438880"/>
                <a:ext cx="8820720" cy="990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8" name="그룹 10"/>
              <p:cNvGrpSpPr/>
              <p:nvPr/>
            </p:nvGrpSpPr>
            <p:grpSpPr>
              <a:xfrm>
                <a:off x="213840" y="5010120"/>
                <a:ext cx="8930160" cy="1411200"/>
                <a:chOff x="213840" y="5010120"/>
                <a:chExt cx="8930160" cy="1411200"/>
              </a:xfrm>
            </p:grpSpPr>
            <p:sp>
              <p:nvSpPr>
                <p:cNvPr id="599" name="AutoShape 29"/>
                <p:cNvSpPr/>
                <p:nvPr/>
              </p:nvSpPr>
              <p:spPr>
                <a:xfrm>
                  <a:off x="213840" y="50101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71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300" spc="-1" strike="noStrike">
                      <a:solidFill>
                        <a:srgbClr val="c00000"/>
                      </a:solidFill>
                      <a:latin typeface="HY강B"/>
                    </a:rPr>
                    <a:t>노년기 주거문제에 대한 사회적 대응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00" name="Text Box 25"/>
                <p:cNvSpPr/>
                <p:nvPr/>
              </p:nvSpPr>
              <p:spPr>
                <a:xfrm>
                  <a:off x="213840" y="5397480"/>
                  <a:ext cx="8930160" cy="102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 및 건강수준 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동거부양 기능 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높은 주택가격으로 주거문제 심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되고 있으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문제는 노인 자신이나 가족이 해결해야 한다는 인식이 팽배하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보장에 대한 사회적 관심은 매우 낮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그룹 8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sp>
          <p:nvSpPr>
            <p:cNvPr id="602" name="AutoShape 2"/>
            <p:cNvSpPr/>
            <p:nvPr/>
          </p:nvSpPr>
          <p:spPr>
            <a:xfrm>
              <a:off x="285480" y="1357200"/>
              <a:ext cx="8715600" cy="4857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4" name="그룹 10"/>
            <p:cNvGrpSpPr/>
            <p:nvPr/>
          </p:nvGrpSpPr>
          <p:grpSpPr>
            <a:xfrm>
              <a:off x="285480" y="785520"/>
              <a:ext cx="8715600" cy="5316480"/>
              <a:chOff x="285480" y="785520"/>
              <a:chExt cx="8715600" cy="5316480"/>
            </a:xfrm>
          </p:grpSpPr>
          <p:sp>
            <p:nvSpPr>
              <p:cNvPr id="605" name="AutoShape 4"/>
              <p:cNvSpPr/>
              <p:nvPr/>
            </p:nvSpPr>
            <p:spPr>
              <a:xfrm>
                <a:off x="285480" y="785520"/>
                <a:ext cx="428652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 주거형태 분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6" name="Text Box 6"/>
              <p:cNvSpPr/>
              <p:nvPr/>
            </p:nvSpPr>
            <p:spPr>
              <a:xfrm>
                <a:off x="356760" y="1557000"/>
                <a:ext cx="8644320" cy="454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형태 분류기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DL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한 의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주방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립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형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시설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시설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시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독립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장 일반적 주거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하고 서비스 필요성 낮은 노인의 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태이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반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자 주택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서비스형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등의 서비스를 제공하는 시설에서 공동생활하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 개인생활보장되는 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법상의 노인복지주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복지시설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호적 환경에서 집단생활을 하는 형태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로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동생활가정 등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료시설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치료와 간호를 목적으로 한 의료서비스가 중점 제공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 거주 형태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병의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병원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일시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기간 동안 숙식이나 기타 필요서비스를 제공하는 주거형태로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법상 단기보호시설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07" name="Rectangle 2"/>
            <p:cNvSpPr/>
            <p:nvPr/>
          </p:nvSpPr>
          <p:spPr>
            <a:xfrm>
              <a:off x="1428480" y="712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의 주거형태와 현실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그룹 6"/>
          <p:cNvGrpSpPr/>
          <p:nvPr/>
        </p:nvGrpSpPr>
        <p:grpSpPr>
          <a:xfrm>
            <a:off x="71280" y="357120"/>
            <a:ext cx="9001440" cy="6369120"/>
            <a:chOff x="71280" y="357120"/>
            <a:chExt cx="9001440" cy="6369120"/>
          </a:xfrm>
        </p:grpSpPr>
        <p:sp>
          <p:nvSpPr>
            <p:cNvPr id="609" name="AutoShape 2"/>
            <p:cNvSpPr/>
            <p:nvPr/>
          </p:nvSpPr>
          <p:spPr>
            <a:xfrm>
              <a:off x="71280" y="785520"/>
              <a:ext cx="9001440" cy="5595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10" name="그룹 10"/>
            <p:cNvGrpSpPr/>
            <p:nvPr/>
          </p:nvGrpSpPr>
          <p:grpSpPr>
            <a:xfrm>
              <a:off x="213840" y="357120"/>
              <a:ext cx="8787240" cy="6369120"/>
              <a:chOff x="213840" y="357120"/>
              <a:chExt cx="8787240" cy="6369120"/>
            </a:xfrm>
          </p:grpSpPr>
          <p:sp>
            <p:nvSpPr>
              <p:cNvPr id="611" name="AutoShape 4"/>
              <p:cNvSpPr/>
              <p:nvPr/>
            </p:nvSpPr>
            <p:spPr>
              <a:xfrm>
                <a:off x="285120" y="357120"/>
                <a:ext cx="428652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 주거실태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2" name="Text Box 6"/>
              <p:cNvSpPr/>
              <p:nvPr/>
            </p:nvSpPr>
            <p:spPr>
              <a:xfrm>
                <a:off x="213840" y="1099800"/>
                <a:ext cx="8787240" cy="562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입소 정원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천여명이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제도 시행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으로 입소 인원이 증가하고 있으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97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가 지역사회에 거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녀 동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별거실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 동거율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4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이 많은 노인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와 동거하는 비율이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형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독주택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9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파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5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다세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%.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%.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동주택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소유상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71%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본인 또는 자녀 명의 자가 소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월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2%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설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반지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옥탑방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5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방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 등 개조 필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편이도와 만족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설비 불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비용 과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구조 불편 등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인해 주거편이도와 만족도가 낮은 편이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 ADL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한 노인의 주거만족도가 상대적으로 낮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래주거계획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 동거 비율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2%)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부 또는 독신 거주 비율 증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시설입소 희망 비율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유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2"/>
          <p:cNvSpPr/>
          <p:nvPr/>
        </p:nvSpPr>
        <p:spPr>
          <a:xfrm>
            <a:off x="609480" y="2071800"/>
            <a:ext cx="8105760" cy="1214280"/>
          </a:xfrm>
          <a:prstGeom prst="roundRect">
            <a:avLst>
              <a:gd name="adj" fmla="val 2003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14" name="그림 3" descr="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615" name="AutoShape 29"/>
          <p:cNvSpPr/>
          <p:nvPr/>
        </p:nvSpPr>
        <p:spPr>
          <a:xfrm>
            <a:off x="214200" y="1643040"/>
            <a:ext cx="8572680" cy="42876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주거환경 계획의 필요성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6" name="Text Box 25"/>
          <p:cNvSpPr/>
          <p:nvPr/>
        </p:nvSpPr>
        <p:spPr>
          <a:xfrm>
            <a:off x="719280" y="2116080"/>
            <a:ext cx="6424560" cy="11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노화로 인한 기능 저하의 보완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독립적이고 안전한 주거환경 구축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사생활 유지 및 사회적 관계망의 유지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285840" y="1071720"/>
            <a:ext cx="628632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Y강B"/>
              </a:rPr>
              <a:t>1) </a:t>
            </a:r>
            <a:r>
              <a:rPr b="0" lang="ko-KR" sz="2600" spc="-1" strike="noStrike">
                <a:solidFill>
                  <a:srgbClr val="ffffff"/>
                </a:solidFill>
                <a:latin typeface="HY강B"/>
              </a:rPr>
              <a:t>노인을 위한 주거환경 계획의 원칙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8" name="AutoShape 2"/>
          <p:cNvSpPr/>
          <p:nvPr/>
        </p:nvSpPr>
        <p:spPr>
          <a:xfrm>
            <a:off x="609480" y="3863880"/>
            <a:ext cx="8105760" cy="264312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19" name="그룹 10"/>
          <p:cNvGrpSpPr/>
          <p:nvPr/>
        </p:nvGrpSpPr>
        <p:grpSpPr>
          <a:xfrm>
            <a:off x="285840" y="3448080"/>
            <a:ext cx="8715240" cy="3024360"/>
            <a:chOff x="285840" y="3448080"/>
            <a:chExt cx="8715240" cy="3024360"/>
          </a:xfrm>
        </p:grpSpPr>
        <p:sp>
          <p:nvSpPr>
            <p:cNvPr id="620" name="AutoShape 29"/>
            <p:cNvSpPr/>
            <p:nvPr/>
          </p:nvSpPr>
          <p:spPr>
            <a:xfrm>
              <a:off x="285840" y="344808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주거환경 계획의 원칙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1" name="Text Box 25"/>
            <p:cNvSpPr/>
            <p:nvPr/>
          </p:nvSpPr>
          <p:spPr>
            <a:xfrm>
              <a:off x="714240" y="3863880"/>
              <a:ext cx="8286840" cy="260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의 연속성 보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존성 최소화 및 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ADL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수준에 맞는 기능적 환경 구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안전한 환경 조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물학적 쾌적성 유지와 건강 지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barrier-free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환경의 구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간조직과 동선의 단순화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방향감각과 이해력 증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상호작용의 자극과 서비스 접근성 최대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22" name="Rectangle 2"/>
          <p:cNvSpPr/>
          <p:nvPr/>
        </p:nvSpPr>
        <p:spPr>
          <a:xfrm>
            <a:off x="1428840" y="285840"/>
            <a:ext cx="6858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HY강B"/>
              </a:rPr>
              <a:t>3.</a:t>
            </a: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노인을 위한 주거환경의 계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그룹 15"/>
          <p:cNvGrpSpPr/>
          <p:nvPr/>
        </p:nvGrpSpPr>
        <p:grpSpPr>
          <a:xfrm>
            <a:off x="285840" y="0"/>
            <a:ext cx="8643960" cy="6524640"/>
            <a:chOff x="285840" y="0"/>
            <a:chExt cx="8643960" cy="6524640"/>
          </a:xfrm>
        </p:grpSpPr>
        <p:grpSp>
          <p:nvGrpSpPr>
            <p:cNvPr id="624" name="그룹 11"/>
            <p:cNvGrpSpPr/>
            <p:nvPr/>
          </p:nvGrpSpPr>
          <p:grpSpPr>
            <a:xfrm>
              <a:off x="285840" y="642600"/>
              <a:ext cx="8643960" cy="5882040"/>
              <a:chOff x="285840" y="642600"/>
              <a:chExt cx="8643960" cy="5882040"/>
            </a:xfrm>
          </p:grpSpPr>
          <p:sp>
            <p:nvSpPr>
              <p:cNvPr id="625" name="AutoShape 2"/>
              <p:cNvSpPr/>
              <p:nvPr/>
            </p:nvSpPr>
            <p:spPr>
              <a:xfrm>
                <a:off x="285840" y="1099080"/>
                <a:ext cx="8643960" cy="5425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6" name="Text Box 6"/>
              <p:cNvSpPr/>
              <p:nvPr/>
            </p:nvSpPr>
            <p:spPr>
              <a:xfrm>
                <a:off x="357120" y="1351080"/>
                <a:ext cx="8572680" cy="47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입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과 유효너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5cm+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유공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cm +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잡이는 레버형 손잡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바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끄럼 방지 마감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바닥 높낮이 차 없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뷸가피한 경우 단차 최소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상연락장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침실에 관리실 비상연락장치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작감지센서 부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5-85cm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수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평 손잡이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사로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.2m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높이에 비디오폰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명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0-900 Lux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침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명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0-400 Lux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구 동작감지센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하이동 가능 샤워기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변기 등 주변 안전손잡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입문은 밖여닫이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닫이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서기문 등으로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애인의 경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좌변기 옆에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5cm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유공간 확보 및 높낮이 조절 가능 세면기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7" name="직사각형 7"/>
              <p:cNvSpPr/>
              <p:nvPr/>
            </p:nvSpPr>
            <p:spPr>
              <a:xfrm>
                <a:off x="285840" y="642600"/>
                <a:ext cx="839088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장애인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고령자 등 주거약자 지원 법률상의 편의시설 설치기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28" name="AutoShape 4"/>
            <p:cNvSpPr/>
            <p:nvPr/>
          </p:nvSpPr>
          <p:spPr>
            <a:xfrm>
              <a:off x="357120" y="0"/>
              <a:ext cx="6286680" cy="491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을 위한 주택설계의 지침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그룹 15"/>
          <p:cNvGrpSpPr/>
          <p:nvPr/>
        </p:nvGrpSpPr>
        <p:grpSpPr>
          <a:xfrm>
            <a:off x="285840" y="0"/>
            <a:ext cx="8643960" cy="6296040"/>
            <a:chOff x="285840" y="0"/>
            <a:chExt cx="8643960" cy="6296040"/>
          </a:xfrm>
        </p:grpSpPr>
        <p:grpSp>
          <p:nvGrpSpPr>
            <p:cNvPr id="630" name="그룹 11"/>
            <p:cNvGrpSpPr/>
            <p:nvPr/>
          </p:nvGrpSpPr>
          <p:grpSpPr>
            <a:xfrm>
              <a:off x="285840" y="642960"/>
              <a:ext cx="8643960" cy="2000160"/>
              <a:chOff x="285840" y="642960"/>
              <a:chExt cx="8643960" cy="2000160"/>
            </a:xfrm>
          </p:grpSpPr>
          <p:sp>
            <p:nvSpPr>
              <p:cNvPr id="631" name="AutoShape 2"/>
              <p:cNvSpPr/>
              <p:nvPr/>
            </p:nvSpPr>
            <p:spPr>
              <a:xfrm>
                <a:off x="285840" y="955440"/>
                <a:ext cx="8643960" cy="1687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2" name="Text Box 6"/>
              <p:cNvSpPr/>
              <p:nvPr/>
            </p:nvSpPr>
            <p:spPr>
              <a:xfrm>
                <a:off x="357120" y="1143000"/>
                <a:ext cx="8572680" cy="11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가족형 아파트 공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8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 후반 서울 상계동에 공급되었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례 적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전용아파트 등도 역시 법적 문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동상 투기의 장의로 변질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 차원의 계획 주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7-3)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민간기업의 실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버타운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7-4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 건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3" name="직사각형 7"/>
              <p:cNvSpPr/>
              <p:nvPr/>
            </p:nvSpPr>
            <p:spPr>
              <a:xfrm>
                <a:off x="285840" y="64296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국내 사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34" name="AutoShape 4"/>
            <p:cNvSpPr/>
            <p:nvPr/>
          </p:nvSpPr>
          <p:spPr>
            <a:xfrm>
              <a:off x="357120" y="0"/>
              <a:ext cx="628668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을 위한 계획 주거환경의 사례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35" name="그룹 11"/>
            <p:cNvGrpSpPr/>
            <p:nvPr/>
          </p:nvGrpSpPr>
          <p:grpSpPr>
            <a:xfrm>
              <a:off x="285840" y="2857320"/>
              <a:ext cx="8643960" cy="2071800"/>
              <a:chOff x="285840" y="2857320"/>
              <a:chExt cx="8643960" cy="2071800"/>
            </a:xfrm>
          </p:grpSpPr>
          <p:sp>
            <p:nvSpPr>
              <p:cNvPr id="636" name="AutoShape 2"/>
              <p:cNvSpPr/>
              <p:nvPr/>
            </p:nvSpPr>
            <p:spPr>
              <a:xfrm>
                <a:off x="285840" y="3214440"/>
                <a:ext cx="8643960" cy="1714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7" name="Text Box 6"/>
              <p:cNvSpPr/>
              <p:nvPr/>
            </p:nvSpPr>
            <p:spPr>
              <a:xfrm>
                <a:off x="357120" y="3285720"/>
                <a:ext cx="8501400" cy="157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조합에서 주로 공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부 민간 기업의 분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지별로 방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의 소형주택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-4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호로 구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독주택의 집합단지이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교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탁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님 맞이방 등은 공동시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에 따라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, 2, 2.5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범주로 구분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각기 다른 서비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8" name="직사각형 14"/>
              <p:cNvSpPr/>
              <p:nvPr/>
            </p:nvSpPr>
            <p:spPr>
              <a:xfrm>
                <a:off x="285840" y="285732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영국사례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: sheltered housing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39" name="그룹 15"/>
            <p:cNvGrpSpPr/>
            <p:nvPr/>
          </p:nvGrpSpPr>
          <p:grpSpPr>
            <a:xfrm>
              <a:off x="285840" y="5072040"/>
              <a:ext cx="8643960" cy="1224000"/>
              <a:chOff x="285840" y="5072040"/>
              <a:chExt cx="8643960" cy="1224000"/>
            </a:xfrm>
          </p:grpSpPr>
          <p:sp>
            <p:nvSpPr>
              <p:cNvPr id="640" name="AutoShape 2"/>
              <p:cNvSpPr/>
              <p:nvPr/>
            </p:nvSpPr>
            <p:spPr>
              <a:xfrm>
                <a:off x="285840" y="5430960"/>
                <a:ext cx="8643960" cy="865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1" name="Text Box 6"/>
              <p:cNvSpPr/>
              <p:nvPr/>
            </p:nvSpPr>
            <p:spPr>
              <a:xfrm>
                <a:off x="357120" y="5503680"/>
                <a:ext cx="8501400" cy="74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은퇴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집합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지공유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유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숙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코주택 등으로 그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태가 매우 다양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상세 내용 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28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2" name="직사각형 18"/>
              <p:cNvSpPr/>
              <p:nvPr/>
            </p:nvSpPr>
            <p:spPr>
              <a:xfrm>
                <a:off x="285840" y="507204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미국 사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그룹 7"/>
          <p:cNvGrpSpPr/>
          <p:nvPr/>
        </p:nvGrpSpPr>
        <p:grpSpPr>
          <a:xfrm>
            <a:off x="0" y="0"/>
            <a:ext cx="9144000" cy="6286320"/>
            <a:chOff x="0" y="0"/>
            <a:chExt cx="9144000" cy="6286320"/>
          </a:xfrm>
        </p:grpSpPr>
        <p:pic>
          <p:nvPicPr>
            <p:cNvPr id="64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5" name="그룹 20"/>
            <p:cNvGrpSpPr/>
            <p:nvPr/>
          </p:nvGrpSpPr>
          <p:grpSpPr>
            <a:xfrm>
              <a:off x="357120" y="1428840"/>
              <a:ext cx="8501040" cy="4857480"/>
              <a:chOff x="357120" y="1428840"/>
              <a:chExt cx="8501040" cy="4857480"/>
            </a:xfrm>
          </p:grpSpPr>
          <p:sp>
            <p:nvSpPr>
              <p:cNvPr id="646" name="AutoShape 2"/>
              <p:cNvSpPr/>
              <p:nvPr/>
            </p:nvSpPr>
            <p:spPr>
              <a:xfrm>
                <a:off x="357120" y="1428840"/>
                <a:ext cx="8501040" cy="48574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7" name="Text Box 25"/>
              <p:cNvSpPr/>
              <p:nvPr/>
            </p:nvSpPr>
            <p:spPr>
              <a:xfrm>
                <a:off x="461880" y="1685880"/>
                <a:ext cx="8286840" cy="455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 또는 주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관계 등의 생활조건상의 곤란과 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부양능력 제한으로 가정에서 계속 생활할 수 없는 경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러한 문제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해결을 도모하는 대안적 노인 주거형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의 종류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료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가노인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보호전문기관으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료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기보호시설만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기능을 갖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종류 및 설치목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발달사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선시대 기로소에서 찾을 수 있으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92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서울 동작동의 천주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양로원이 최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9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양로시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운영현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4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및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www.longterm.or.kr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장제도의 실시로 의료복지시설은 사회보험제도 방식의 운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은 국가지원방식의 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48" name="Rectangle 2"/>
            <p:cNvSpPr/>
            <p:nvPr/>
          </p:nvSpPr>
          <p:spPr>
            <a:xfrm>
              <a:off x="1428480" y="2854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인복지시설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9" name="AutoShape 7"/>
            <p:cNvSpPr/>
            <p:nvPr/>
          </p:nvSpPr>
          <p:spPr>
            <a:xfrm>
              <a:off x="285480" y="1071360"/>
              <a:ext cx="5857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시설의 종류와 현황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03:50:21Z</dcterms:modified>
  <cp:revision>347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